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.jpeg" ContentType="image/jpeg"/>
  <Override PartName="/ppt/media/gunshot.wav" ContentType="audio/x-wav"/>
  <Override PartName="/ppt/media/image6.jpeg" ContentType="image/jpeg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85C-AD5D-4BED-8FBD-E810F9FE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811-8280-49A6-91A9-C17ECD43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1D0-F831-47C8-8DA3-AA0A57C3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797-254B-447A-8DC4-48E6E051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5A0-18BF-4F9B-A5F6-75D35633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BF4-A697-4D51-A8AB-20A5C3C7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CD4-09EE-450F-8DF6-49B0CBAD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4B1-65EC-464E-86F9-F1B1DC22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000-01B0-42CD-973D-28B38B71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432-30B6-44FB-A29B-AC939955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CE1-0966-44D2-B01B-AD7A72F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F66-B186-46BE-B4A9-609222DD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AA1-D866-4642-A82C-82D731FC4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audio" Target="../media/gunshot.wav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1987200">
            <a:off x="5562360" y="3123720"/>
            <a:ext cx="2133360" cy="177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S.2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28600"/>
            <a:ext cx="8763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 DAY IN LIFE AT APR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914400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Early in the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During clas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4" action="ppaction://hlinksldjump"/>
              </a:rPr>
              <a:t>Brea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5" action="ppaction://hlinksldjump"/>
              </a:rPr>
              <a:t>Lun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6" action="ppaction://hlinksldjump"/>
              </a:rPr>
              <a:t>After l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7" action="ppaction://hlinksldjump"/>
              </a:rPr>
              <a:t>S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8" action="ppaction://hlinksldjump"/>
              </a:rPr>
              <a:t>Pr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9" action="ppaction://hlinksldjump"/>
              </a:rPr>
              <a:t>Su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10" action="ppaction://hlinksldjump"/>
              </a:rPr>
              <a:t>Preps after su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11" action="ppaction://hlinksldjump"/>
              </a:rPr>
              <a:t>B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2" name="gunsho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 rot="1948200">
            <a:off x="5306760" y="2819160"/>
            <a:ext cx="1931760" cy="2057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ranklinGotTDemCon"/>
              </a:rPr>
              <a:t>We come back to class &amp; revise again for the second prep &amp;recall what we were revising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ranklinGotTDemCon"/>
              </a:rPr>
              <a:t>The people supposed to clean the class start mopping &amp;that is usually done by gir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ranklinGotTDemCon"/>
              </a:rPr>
              <a:t>The bell rings we end preps&amp; go back to our dormi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FranklinGotTDemCon"/>
              </a:rPr>
              <a:t>We keep our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05120" y="0"/>
            <a:ext cx="556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EPS AFTER SUPPER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4" name="gunsho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 rot="19902600">
            <a:off x="4419720" y="419076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5335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FranklinGotTDemCon"/>
              </a:rPr>
              <a:t>We put on our   nightwear,pray thanking God for keeping us alive &amp; then get to 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ff"/>
                </a:solidFill>
                <a:latin typeface="Monotype Corsiva"/>
              </a:rPr>
              <a:t>BED TI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Monotype Corsiva"/>
              </a:rPr>
              <a:t>MANZI DALT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Monotype Corsiva"/>
              </a:rPr>
              <a:t>RUTABAYIRU JIM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ff"/>
                </a:solidFill>
                <a:latin typeface="Arial Narrow"/>
              </a:rPr>
              <a:t>RURANGWA SAM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9900"/>
                </a:solidFill>
                <a:latin typeface="Courier New"/>
              </a:rPr>
              <a:t>MUGISHA S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cc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Comic Sans MS"/>
              </a:rPr>
              <a:t>MUHINDA DICK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cc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ccff"/>
                </a:solidFill>
                <a:latin typeface="Arial Narrow"/>
              </a:rPr>
              <a:t>GATETE SIM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09680" y="380880"/>
            <a:ext cx="39625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XFORD  BOY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gunsho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wake up at 5.30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p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lay our b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greet our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brush our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go for a b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dry ourselves,smear with jelly and comb our h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dress up,visit the canteen and aft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collect books and go to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We settle down &amp; revise our books as we waiting for the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544400">
            <a:off x="5028840" y="1523880"/>
            <a:ext cx="2286000" cy="189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28800" y="228600"/>
            <a:ext cx="4457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ARY IN THE MORNING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gunsho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096800">
            <a:off x="4876560" y="2971800"/>
            <a:ext cx="180648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FranklinGotTDemC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GotTDemCon"/>
              </a:rPr>
              <a:t>When the teacher comes we start off with the first period i.e chemistry d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When the bell is rang the teacher gets out &amp; the second period comes in i.e physics do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rebuchet MS"/>
              </a:rPr>
              <a:t>Then the time keeper Jimmy rings for break  time</a:t>
            </a: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ff"/>
                </a:solidFill>
                <a:latin typeface="Monotype Corsiva"/>
              </a:rPr>
              <a:t>DURING CLASS TI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8873600">
            <a:off x="1676520" y="2590920"/>
            <a:ext cx="182880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37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We go out for short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Then we visit the cant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Some of us take eats &amp;dri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Then we relax for a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Then the bell is ru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Monotype Corsiva"/>
              </a:rPr>
              <a:t>We get back to</a:t>
            </a:r>
            <a:r>
              <a:rPr b="0" lang="en-US" sz="3600" spc="-1" strike="noStrike">
                <a:solidFill>
                  <a:srgbClr val="ffff99"/>
                </a:solidFill>
                <a:latin typeface="Monotype Corsiva"/>
              </a:rPr>
              <a:t> class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762120"/>
            <a:ext cx="264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REAKTIM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4" name="gunsho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19988400">
            <a:off x="4647960" y="3352320"/>
            <a:ext cx="1952640" cy="1981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We get back to the dormitories we keep bo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We come with forks &amp; make lines for pl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 Narrow"/>
              </a:rPr>
              <a:t>Then another line for food &amp; the cooks serve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 Narrow"/>
              </a:rPr>
              <a:t>We therefore get seats &amp; 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 Narrow"/>
              </a:rPr>
              <a:t>After eating we go washing our</a:t>
            </a:r>
            <a:r>
              <a:rPr b="0" lang="en-US" sz="2800" spc="-1" strike="noStrike">
                <a:solidFill>
                  <a:srgbClr val="99cc00"/>
                </a:solidFill>
                <a:latin typeface="Lucida Sans Unicode"/>
              </a:rPr>
              <a:t> f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onotype Corsiva"/>
              </a:rPr>
              <a:t>LUNCH TI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18547200">
            <a:off x="5438520" y="2666520"/>
            <a:ext cx="1533240" cy="1752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entury Gothic"/>
              </a:rPr>
              <a:t>We come back to class with other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entury Gothic"/>
              </a:rPr>
              <a:t>Then the teacher comes to class, gives notes &amp; explains, when he asks questions we immediately answer like bright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As the bell goes he walks out &amp;another teacher comes in until the bell is rung , we get back to the dormitories, take off our uniforms &amp; keep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We then we put on sportswear</a:t>
            </a:r>
            <a:r>
              <a:rPr b="0" lang="en-US" sz="2400" spc="-1" strike="noStrike">
                <a:solidFill>
                  <a:srgbClr val="3333cc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666880" y="0"/>
            <a:ext cx="3629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FTER LUNC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4" name="gunsho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3127200">
            <a:off x="4876920" y="2437920"/>
            <a:ext cx="1913040" cy="1981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4876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We have got different kinds of games , some play football,netball&amp;basketball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The majority of us play football &amp; we enjoy it so much &amp; a times we compete with other schools, we usually w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We come back to the dormitories &amp; take baths, we dry ourselves with tow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We smear ourselves, comb &amp;dress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We clean up our shoes &amp;put-on them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62320" y="30492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POR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2043000">
            <a:off x="4571640" y="312372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Narrow"/>
              </a:rPr>
              <a:t>We collect our books &amp;come to class, we revise for moments as we wait for roll calls in order to know the absent &amp;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Narrow"/>
              </a:rPr>
              <a:t>We discuss with other students &amp; mind you that”s the first prep,the bell rings for su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828800" y="457200"/>
            <a:ext cx="52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RE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20617200">
            <a:off x="4419720" y="35053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entury Gothic"/>
              </a:rPr>
              <a:t>We  make queue to get plates , still on the line we get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entury Gothic"/>
              </a:rPr>
              <a:t>We therefore get seats, start praying &amp; then enjoy our meals as well as making f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entury Gothic"/>
              </a:rPr>
              <a:t>When we finish up we go washing our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9520" y="3049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PP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unsho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1:38Z</dcterms:created>
  <dc:creator>APRED</dc:creator>
  <dc:description/>
  <dc:language>en-US</dc:language>
  <cp:lastModifiedBy>APRED</cp:lastModifiedBy>
  <dcterms:modified xsi:type="dcterms:W3CDTF">2002-10-23T19:52:11Z</dcterms:modified>
  <cp:revision>11</cp:revision>
  <dc:subject/>
  <dc:title>ADAY IN LIFE AT APRED</dc:title>
</cp:coreProperties>
</file>